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E263-66DF-4F9A-8723-DE22BF63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– using map perspec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Euro-centric view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ening personal and cultural persp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– using map perspec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Euro-centric view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ening personal and cultural persp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670-0A70-4CAC-9648-62598966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10C-A069-4E7C-8F61-060D5B02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6FA-8D6D-4DFE-A86C-F4A5AFED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C67-4D4E-4385-9E03-940557EC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6D6-4C11-4A22-B60B-139F0E6E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EE0-F632-466A-AF89-FDA52374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D58-A989-4B96-A7CD-AF31B8C6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DEB-C2E2-44A2-9A8C-8F0428C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579-239B-45EF-BD4A-0E1767B1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C28-54A9-4070-9856-2E77A65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797-9648-44E7-967B-19F1E7C3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C58-E6BE-4441-A101-C3E0D18E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1D6-1C8A-45CA-9D33-4BD4F638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nsmojo.com/HackOpticalIllusionsImage03.gif&amp;imgrefurl=http://profile.myspace.com/77356913&amp;h=362&amp;w=360&amp;sz=80&amp;hl=en&amp;start=111&amp;um=1&amp;usg=__gnOoUMfDlTMEJgMH-YHC6JqJfA8=&amp;tbnid=RkE4zhomNzhSkM:&amp;tbnh=121&amp;tbnw=120&amp;prev=/images%3Fq%3Doptical%2Billusions%255B%26start%3D108%26ndsp%3D18%26um%3D1%26hl%3Den%26rls%3Dcom.microsoft:en-US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xt:  World History 4</a:t>
            </a:r>
            <a:r>
              <a:rPr b="0" lang="en-US" sz="32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uiker/Spielvo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838080"/>
            <a:ext cx="6095880" cy="29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ld Hi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7011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33680" cy="577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438156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81680" cy="375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72000" y="4657680"/>
            <a:ext cx="32767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75164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world map with as many continents, countries, and oceans/waterways a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bi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is a term used to describe a tendency or preference towards a particular perspective, ideology or result, especially when the tendency interferes with the ability to be impartial, unprejudiced, or obje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consider to find b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– ethnicity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oloring or influencing the auth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 – who is the work intend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5 W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ed Words – best underl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used with DBQ – Document Ba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find biases in oral and written communication and docu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: Article Perspective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ff66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ssignment – Chapter 1 Pages 2- 14 Due for Thursday – expect reading quiz – True and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mes of Understan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orld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ystems - structure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Ideas – power and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 and History – meeting of needs/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Life and Gender Issue – class structures/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ulture – High/Pop 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 in History – spread/impact/changes to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Role of Individuals – man makes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of Science and Technology –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and History – human imp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gration of People – why people mo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Multiple Persp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How do we se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1981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84072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43480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197000"/>
            <a:ext cx="4141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1:49:23Z</dcterms:created>
  <dc:creator>ripkensa</dc:creator>
  <dc:description/>
  <dc:language>en-US</dc:language>
  <cp:lastModifiedBy>ripkensa</cp:lastModifiedBy>
  <dcterms:modified xsi:type="dcterms:W3CDTF">2009-08-31T22:23:35Z</dcterms:modified>
  <cp:revision>12</cp:revision>
  <dc:subject/>
  <dc:title>World History</dc:title>
</cp:coreProperties>
</file>